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CE1D-B68C-4970-BC9D-73B32677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1AFD-0170-475A-9590-49FF54FF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C17F-C15B-42B1-8DB6-190DEEAB4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05B3-4618-419C-83C7-E55EAD93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0446-1E45-419E-8736-988375D0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4AC5-46BC-42D4-B16F-BC4F395A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4E21-6F3B-460C-9711-650B4DAC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F481-0991-4FFC-9278-54BC0065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32F6-7D85-4A6B-8D2A-73948E71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CFD4-0D85-42E0-BCCA-0DD85043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5A05-94F5-4817-BF02-7674856F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8288-A7BC-4068-994B-2B9EAA1F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E8E5-3203-4C21-BD9D-A69266B3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DF64-CCF7-4F56-9DA8-289186BB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77ED-B1E7-49E2-93B8-EA1624A6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F773-9EA7-4F84-95AD-3725EED2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915A-1F92-4321-A8E0-7C574F34A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9351-C1F6-4906-9FA1-55483C8D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F8B4-6BBD-4A2F-A9A5-AD6ADA25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142B-D3F8-44C6-8320-BF80992F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088B-193F-4D7E-B7EB-BD75A8FF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1807-09B5-472F-A52B-50CA430E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CB18-657D-4677-8DD5-F83FD96F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9938-9475-49F0-A6CE-C2800A3B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55A0-BEFD-4D4C-B051-0281E589DE6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90AB-874B-49C6-BD7E-3D04A5579EB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3213000"/>
            <a:ext cx="6400800" cy="2130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o-RO" sz="5400" spc="-1" strike="noStrike">
                <a:solidFill>
                  <a:srgbClr val="000000"/>
                </a:solidFill>
                <a:latin typeface="Monotype Corsiva"/>
              </a:rPr>
              <a:t>Efectele E – urilor asupra organismului uman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STANCA  EMILIA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ransition spd="slow" advTm="3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Monotype Corsiva"/>
              </a:rPr>
              <a:t>E220 – E228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sau sulfiţii sunt conservanţi care pot provoca boli intestinale şi alergii. Se găsesc în cartofi deshidrataţi, fructe confiate, prăjituri, bere, vin sau oţet din v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E230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sau bifenil este un conservant toxic care se găseşte în citrice şi poate produce boli de pie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E231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sau ortofenil fenol este un conservant toxic, posibil cancerigen care se găseşte în citri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3000">
    <p:dissolv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E954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sau Zaharina este un posibil îndulcitor cancerigen întâlnit în guma de mestecat, produse dulci şi băuturi răcoritoa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E320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sau butil hidroxi-anisol este un conservant posibil cancerigen din cartofi deshidrataţi, uleiuri vegetale, supe concentrate, sosuri şi gumă de mesteca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E321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sau acidul benzoic este un antioxidant posibil cancerigen care determină creşterea colesterolului şi se găseşte în margarin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3000">
    <p:dissolv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E425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 sau glucomanan este agent de textură care are efect toxic respirator. Poate fi întâlnit în jeleuri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E621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sau glutamat monosodic are efect toxic asupra sistemului nervos întâlnit în condimente şi supe concentra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E950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sau Acetsulfam K este un îndulcitor posibil cancerigen găsit în guma de mestecat, produse zaharoase şi băuturi răcoritoa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3000">
    <p:dissolv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E – urile sunt aditivi  care se folosesc la prepararea unor produselor alimentare  în scopul ameliorării calităţii acestora şi prelungirii perioadei în care acestea pot fi consuma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3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omic Sans MS"/>
              </a:rPr>
              <a:t>Tipuri de E - ur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000000"/>
                </a:solidFill>
                <a:latin typeface="Comic Sans MS"/>
              </a:rPr>
              <a:t>Coloranţii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– schimbă sau dau culoare alimentelor şi sunt notaţi cu E100 până la E180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000000"/>
                </a:solidFill>
                <a:latin typeface="Comic Sans MS"/>
              </a:rPr>
              <a:t>Edulcoranţii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– folosiţi pentru îndulcirea alimentel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000000"/>
                </a:solidFill>
                <a:latin typeface="Comic Sans MS"/>
              </a:rPr>
              <a:t>Acidifianţii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– dau alimentelor gustul ac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000000"/>
                </a:solidFill>
                <a:latin typeface="Comic Sans MS"/>
              </a:rPr>
              <a:t>Corectorii de aciditate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– cresc sau micşorează aciditate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3000"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000000"/>
                </a:solidFill>
                <a:latin typeface="Comic Sans MS"/>
              </a:rPr>
              <a:t>Corectorii de gust şi miros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– schimbă gustul şi mirosul alimentel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000000"/>
                </a:solidFill>
                <a:latin typeface="Comic Sans MS"/>
              </a:rPr>
              <a:t>Emulgatorii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– asigură un amestec omogen între apă şi grăsimi, sunt notaţi cu simboluri de la E400 la E5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000000"/>
                </a:solidFill>
                <a:latin typeface="Comic Sans MS"/>
              </a:rPr>
              <a:t>Conservanţii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– împiedică alterarea alimentelor, sunt notaţi cu simboluri de la E200 la E29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3000"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229600" cy="34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000000"/>
                </a:solidFill>
                <a:latin typeface="Comic Sans MS"/>
              </a:rPr>
              <a:t>Antioxidanţii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– limitează oxidarea alimentelor care vin în contact cu aerul, sunt notaţi cu simboluri de la E300 la E33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000000"/>
                </a:solidFill>
                <a:latin typeface="Comic Sans MS"/>
              </a:rPr>
              <a:t>Propulsorii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– servesc la expulzarea alimentelor din ambalaj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3000"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omic Sans MS"/>
              </a:rPr>
              <a:t>E – urile bune pentru organism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omic Sans MS"/>
              </a:rPr>
              <a:t>E140 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– clorofila este un colorant natural folosit pentru colorarea pastelor de dinţi, a cosmeticelor sau în cofetări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omic Sans MS"/>
              </a:rPr>
              <a:t>E300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– vitamina B2 sau riboflavi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omic Sans MS"/>
              </a:rPr>
              <a:t>E306 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– vitamina E sau tocoferolul este un antioxidant natural care ajută la regenerarea celulel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3000"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omic Sans MS"/>
              </a:rPr>
              <a:t>E322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– lecitina este un antioxidant natura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omic Sans MS"/>
              </a:rPr>
              <a:t>E407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– caragenananul este un emulsifiant natur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omic Sans MS"/>
              </a:rPr>
              <a:t>E421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– manitolul întâlnit în produsele de cofetăr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omic Sans MS"/>
              </a:rPr>
              <a:t>E440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– Vitamina C naturală sau acidul ascorbi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3000">
    <p:dissolv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omic Sans MS"/>
              </a:rPr>
              <a:t>E – urile rele pentru orga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E110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 sau Sunset yellow este un colorant de culoare galbenă, cancerigen folosit la fabricarea  de dulciuri, prăjituri, sucuri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E123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sau Amarant este un colorant de culoare roşie, cancerigen întâlnit în  duciuri, jeleuri şi brânză topită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E124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sau Ponceau 4R este un colorant de culoare roşie, toxic folosit la fabricarea mezeluril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3000">
    <p:dissolv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E127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sau Eritrozina este un colorant roşu care provoacă cancer al tiroidei la animale. Se găseşte în alcool, îngheţată, prăjituri, bomboane şi sucuri răcoritoar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E128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sau Roşu 2G este un colorant mutagen şi toxic întâlnit la hamburgheri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E211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sau acidul benzoic poate fi posibil cancerigen întâlnit în unele băuturi răcoritoa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3000">
    <p:dissolv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3:25:30Z</dcterms:created>
  <dc:creator>Ioana Stanciu</dc:creator>
  <dc:description/>
  <dc:language>en-US</dc:language>
  <cp:lastModifiedBy>User</cp:lastModifiedBy>
  <dcterms:modified xsi:type="dcterms:W3CDTF">2012-04-09T08:04:06Z</dcterms:modified>
  <cp:revision>6</cp:revision>
  <dc:subject/>
  <dc:title>Efectele E – urilor asupra organismului uman</dc:title>
</cp:coreProperties>
</file>